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-23760" y="-14400"/>
            <a:ext cx="1039176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/>
          <p:cNvSpPr/>
          <p:nvPr/>
        </p:nvSpPr>
        <p:spPr>
          <a:xfrm>
            <a:off x="122400" y="1440"/>
            <a:ext cx="84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ver Ther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38" name="Picture 12" descr="lef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33240" y="7053120"/>
            <a:ext cx="268560" cy="363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2" descr="left">
            <a:hlinkClick r:id="" action="ppaction://hlinkshowjump?jump=previousslide"/>
          </p:cNvPr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279360" y="7056360"/>
            <a:ext cx="265320" cy="358920"/>
          </a:xfrm>
          <a:prstGeom prst="rect">
            <a:avLst/>
          </a:prstGeom>
          <a:ln w="0">
            <a:noFill/>
          </a:ln>
        </p:spPr>
      </p:pic>
      <p:sp>
        <p:nvSpPr>
          <p:cNvPr id="40" name="Text Box 14"/>
          <p:cNvSpPr/>
          <p:nvPr/>
        </p:nvSpPr>
        <p:spPr>
          <a:xfrm>
            <a:off x="576360" y="1096920"/>
            <a:ext cx="95695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VERSE 1: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Johnnie, get your gun, get your gun, get your gun,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Take it on the run, on the run, on the run,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Hear them calling you and me, ev’ry son of liberty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Hurry right away, no delay, go today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Make your Daddy glad to have had such a lad,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Tell your sweetheart not to pine, to be proud her boy’s in line 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CHORUS: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Over there, over there, send the word, send the word, over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there,That the Yanks are coming, the Yanks are coming,The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drums rum-tumming ev’-ry where So pre-pare, say a prayer,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send the word, send the word to beware We’ll be over, we’re coming over, And we won’t come back 'til it’s over Over There!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-23760" y="-14400"/>
            <a:ext cx="10391760" cy="7639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22400" y="1440"/>
            <a:ext cx="85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ver Ther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43" name="Picture 12" descr="left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79360" y="7056360"/>
            <a:ext cx="265320" cy="35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left">
            <a:hlinkClick r:id="" action="ppaction://hlinkshowjump?jump=nextslide"/>
          </p:cNvPr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633240" y="7053120"/>
            <a:ext cx="268560" cy="363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576360" y="1096920"/>
            <a:ext cx="934704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VERSE 2: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Johnnie, get your gun, get your gun, get your gun,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Johnnie show the Hun you're a son of a gun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Hoist the flag and let her fly, Yankee Doodle do or die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Pack your little kit, show your grit, do your bit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Yankees to the ranks from the towns and the tanks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Make your mother proud of you and the old Red White and Blue 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What seems to be the purpose of this song?</a:t>
            </a:r>
            <a:endParaRPr b="0" lang="en-US" sz="23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5-12-04T13:36:43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